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C17-B205-4DEA-9439-29180B81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59F-EAE6-4031-A0DC-DFAE2BA0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FD7-9AF1-437C-BBE3-A7886932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10C-E006-4816-BE76-77565C7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40D-AC14-4F1E-92CB-A993F721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632-27A7-4DEF-853C-5877EEC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CB5-0F93-4D53-9543-9E137CE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6EB-C440-4468-A80A-D14A05F8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AF4-BC46-40C9-9C62-976E542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A35-1A0C-443E-AE86-FB6B6FC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D56-DCCE-46F6-8466-19B55A8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11F-3F5F-40F4-B334-C60DC95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DCBE-774C-4458-93BD-BF1D58229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ISSUES IN EPI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40Z</dcterms:modified>
  <cp:revision>98</cp:revision>
  <dc:subject/>
  <dc:title>The Art in the State of the Art</dc:title>
</cp:coreProperties>
</file>